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D0D-2108-4412-B90D-7997A03F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357-6F25-4CC8-A9B2-C1F81E68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3B7-E372-4BF0-92C3-A8CF6DDE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88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752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88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752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2EC-0C90-4D96-93EC-61FF56AA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BD6D-1F9F-4691-B775-9AB951FD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9058-7281-4280-B38F-199ABF58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D75B-AC3A-4C2F-9F66-1D7335D2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ACE7-1841-4639-A8F8-A1246B2A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B844-3A53-4B96-AD99-AE335218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7072-C0F2-4C2F-A436-EBE09E6A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6017-E678-45F3-909C-54E15B97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4F7-6012-434F-B463-890C892D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1209-14B4-41A9-82A9-285FF6C7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A486-643D-4FDC-8D97-98BC0F44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6ED4-79B8-404C-BC3A-57082F97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E723-168E-4744-A774-6296DBBE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288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752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288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752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9589-6F94-405F-8DB9-3AADD05C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EE2-BFBD-4793-AD6F-55322D2E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C3C0-56CB-4E53-ACE3-495046B8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F7F-350A-4B2D-A645-0DD8D8AA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7A48-3F43-4606-ACC4-B54B3A0E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58AE-1194-4296-9FF1-4F109FDE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8581-DC05-4DC9-AC06-19D1577A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BE8-5A4A-4CDF-BE69-B5833B9C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5E3B-90E9-4E8A-845B-96677BE101FA}" type="slidenum">
              <a:rPr b="1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DD76-68FD-46A7-BBD6-5A5E818799F4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Imprint MT Shadow"/>
              </a:rPr>
              <a:t>Career Planning</a:t>
            </a:r>
            <a:r>
              <a:rPr b="0" lang="en-US" sz="4800" spc="-1" strike="noStrike">
                <a:solidFill>
                  <a:srgbClr val="dfd293"/>
                </a:solidFill>
                <a:latin typeface="Imprint MT Shadow"/>
              </a:rPr>
              <a:t>	</a:t>
            </a: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rint MT Shadow"/>
              </a:rPr>
              <a:t>The World of Work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Agree / Disagree / Have No Idea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Dreaming is an important part of career planning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Unless you’re rich, starting a business is not a realistic career possibility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Job satisfaction is affected by your hours, the people you work with, work environment, and the things you do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Agree / Disagree / Have No Idea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One of the good things about earning money is that you always have lots of time to enjoy it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If you have a good education and work hard, you’re guaranteed to get the job you want and keep it the rest of your lif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Most people will have more than a dozen jobs in their lives.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Discussion Question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mprint MT Shadow"/>
              </a:rPr>
              <a:t>What is the difference between a JOB and a CAREER?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Agree / Disagree / Have No Idea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Only people who make more than $30, 000 a year pay income tax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Finishing High School has no connection to how much money you can earn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Imprint MT Shadow"/>
              </a:rPr>
              <a:t>3</a:t>
            </a:r>
            <a:r>
              <a:rPr b="1" i="1" lang="en-US" sz="3200" spc="-1" strike="noStrike">
                <a:solidFill>
                  <a:srgbClr val="ffffff"/>
                </a:solidFill>
                <a:latin typeface="Imprint MT Shadow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Imprint MT Shadow"/>
              </a:rPr>
              <a:t>Transferable Skills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 are skills you can pass on to your co-worker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Agree / Disagree / Have No Idea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The amount of Leisure Time you have depends solely on your occupation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Hating your high – paying job is no reason to leave it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You should start thinking about working life a few years before you leave high school, and stick with your idea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Agree / Disagree / Have No Idea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Improving technology always leads to creating job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Once you graduate from University or College, the classroom part of learning is over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Learning a trade is only good if you aren’t accepted into university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Agree / Disagree / Have No Idea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Math skills are only useful in the scientific or technical field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Volunteering can help give you skills that could get you a job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The best occupations are the ones that pay the most money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Agree / Disagree / Have No Idea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If you’re smart and leave school early, you’ll be able to get to the high-paying jobs ahead of your classmate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What you study in high school can really affect your job choices later in lif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Gross monthly income is the money left over after you pay your bills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Agree / Disagree / Have No Idea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When you’re choosing among career options, it helps to talk to people who have jobs that appeal to you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It makes sense to take your personality into account when you choose an occupation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To plan a successful career, the most important factor should always be the money you will earn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Agree / Disagree / Have No Idea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Because you will spend a large portion of your later life working, you might as well go ahead and enjoy life now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In most jobs, you do not have to organize your own work because you will be told what to do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When you have a job, you can buy whatever you want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23:06:30Z</dcterms:created>
  <dc:creator>Administrator</dc:creator>
  <dc:description/>
  <cp:keywords/>
  <dc:language>en-US</dc:language>
  <cp:lastModifiedBy>Administrator</cp:lastModifiedBy>
  <dcterms:modified xsi:type="dcterms:W3CDTF">2006-04-19T17:53:09Z</dcterms:modified>
  <cp:revision>6</cp:revision>
  <dc:subject/>
  <dc:title>Career Plann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774331033</vt:lpwstr>
  </property>
</Properties>
</file>